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7.png" ContentType="image/png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B1A7-FD01-4058-B29E-C40BE1701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628E-A793-42D6-9CDF-BD6A22BF8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B353-80D1-4747-A74D-A3A92364C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80B4-AB92-432B-9729-002479D6D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6D5F-47FA-459E-BD4B-3ACF6088A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495F-DC4C-41D7-81D0-B3B984A6A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62A4-9D21-4462-AC1D-AECA2A7E8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C8DB-C294-4A25-ABCE-B0B91D3B1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70D9-7FAC-4073-B97D-4A0598570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25C5-BC8D-4FA8-81CA-FDA73EADE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C152-8F5E-44AE-AC7A-958BB9C42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84E7-02BC-4E0A-814C-D5D07F85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0C99E-EB40-423B-9978-07F8A4E150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2209680"/>
            <a:ext cx="83818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ction 1.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Graph of a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5680" y="1371600"/>
            <a:ext cx="4257720" cy="3105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191120" y="1752480"/>
            <a:ext cx="4524120" cy="7714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233960" y="2514600"/>
            <a:ext cx="3371760" cy="4665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4314960" y="3200400"/>
            <a:ext cx="3076560" cy="380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4343400" y="3809880"/>
            <a:ext cx="2629080" cy="3812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2286000" y="4572000"/>
            <a:ext cx="6143760" cy="4190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2286000" y="5257800"/>
            <a:ext cx="4753080" cy="333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2286000" y="5791320"/>
            <a:ext cx="4210200" cy="3902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04920" y="4572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13405"/>
                </a:solidFill>
                <a:latin typeface="Arial"/>
              </a:rPr>
              <a:t>1.  </a:t>
            </a:r>
            <a:r>
              <a:rPr b="1" lang="en-US" sz="2400" spc="-1" strike="noStrike">
                <a:solidFill>
                  <a:srgbClr val="e13405"/>
                </a:solidFill>
                <a:latin typeface="Arial"/>
              </a:rPr>
              <a:t>Follow directions and/or answer the ques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5562360" cy="914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" name=""/>
          <p:cNvGraphicFramePr/>
          <p:nvPr/>
        </p:nvGraphicFramePr>
        <p:xfrm>
          <a:off x="1143000" y="228600"/>
          <a:ext cx="5257800" cy="969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228600"/>
                    <a:ext cx="52578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609480" y="2166840"/>
            <a:ext cx="7543800" cy="486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609480" y="2895480"/>
            <a:ext cx="7696440" cy="5191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57200" y="4255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13405"/>
                </a:solidFill>
                <a:latin typeface="Arial"/>
              </a:rPr>
              <a:t>2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758880" y="3549600"/>
            <a:ext cx="8004240" cy="4730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758880" y="4159080"/>
            <a:ext cx="5059440" cy="455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8"/>
          <a:stretch/>
        </p:blipFill>
        <p:spPr>
          <a:xfrm>
            <a:off x="758880" y="4794120"/>
            <a:ext cx="7475400" cy="8524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01680" y="347328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13405"/>
                </a:solidFill>
                <a:latin typeface="Arial"/>
              </a:rPr>
              <a:t>3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" y="563868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13405"/>
                </a:solidFill>
                <a:latin typeface="Arial"/>
              </a:rPr>
              <a:t>Determine the average cost of manufacturing 30 computers in a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3T22:05:03Z</dcterms:created>
  <dc:creator>Harry S. Mills</dc:creator>
  <dc:description/>
  <dc:language>en-US</dc:language>
  <cp:lastModifiedBy>Harry S. Mills</cp:lastModifiedBy>
  <dcterms:modified xsi:type="dcterms:W3CDTF">2007-12-29T04:31:44Z</dcterms:modified>
  <cp:revision>3</cp:revision>
  <dc:subject/>
  <dc:title>Slide 1</dc:title>
</cp:coreProperties>
</file>